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305-7C6C-41C5-AADD-9EA88159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E1A-0C48-49AB-B316-082BE36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59A-63D1-487C-AB43-6C07EE45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5A8-77FE-4B61-85AC-D5CA1522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4AB0-1FEB-440C-A110-4BD0A7B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D1CB-D6AB-4197-AE04-CAAB952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4CC-8C23-4AAF-BDBD-8CBD5BE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A0F-3577-4B7C-BA41-E52278C9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0A9-03D9-4962-B2DE-EE417312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DAD9-DC69-4BC3-95D6-F23B9A9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050-87A4-47EA-B0F1-7398D31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1DE-98CA-4CBF-91B7-F7621E97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55B-0D01-4982-937A-499A718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565-F4EB-4E8C-85CA-B89E192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8B11-5C81-4B5B-AD4E-7B46436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9F2-F488-435A-90A3-BF1BA25B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F821-CD19-4EC5-9C0A-1B64D4C5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3873-73CC-4805-B34D-E1AF726F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B145-18D7-4DC7-8689-0A55F16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726B-7D1C-48FE-B014-A53298AA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2D09-2FF1-4477-BE57-36DF520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1F1A-36FE-4583-9AF8-C9FA5C2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A4B-6E44-4397-9887-4D99500D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D5DA-6BC4-44D5-98A4-A3B6D52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A3DC-FF21-4467-AC44-A1D7D86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5162-68F1-4B07-B0FE-719D8F1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BAD6-5795-4ABD-85FD-A3180F7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A885-3988-4E07-AA3E-A58C9B3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DC46-8856-4221-B103-3E54E461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1E3A-EA43-41EE-B52D-DB36E4A9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5C9-C243-4D55-94EB-6BB775F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DAD-3332-41CD-91AD-70CB2D9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BC9-1D2F-4BDD-985E-DB5F81D8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606-649B-4641-BE52-DAF4D36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431-E1A3-438D-90B9-0237C95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D22-AF1A-4C3E-8E77-F150EDE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1AB-898B-4EE1-88A1-A0DB7BC9C2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7F0-8A50-4F10-BB28-85830F133AB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5669-0201-4E4B-9D78-EC3E2C3C9DD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7F7-6FB0-4560-A865-3018A58D934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6AE-3992-4086-AE6A-04465548094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3CB-2DAD-4023-A1B1-6800C890814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474840"/>
            <a:ext cx="804240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c7c9f"/>
                </a:solidFill>
                <a:latin typeface="News Gothic MT"/>
              </a:rPr>
              <a:t>Declining Balance Method of Depreciation</a:t>
            </a:r>
            <a:endParaRPr b="0" lang="en-US" sz="49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685800" y="187020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the Book Value by a constant depreciation rate at the end of each fiscal peri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 plant asset is never depreciated below its estimated salvage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c7c9f"/>
                </a:solidFill>
                <a:latin typeface="News Gothic MT"/>
              </a:rPr>
              <a:t>CALCULATING DEPRECIATION USING THE DOUBLE DECLINING-BALANCE METHOD</a:t>
            </a:r>
            <a:endParaRPr b="0" lang="en-US" sz="2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154080" y="1295280"/>
            <a:ext cx="7923240" cy="2589120"/>
            <a:chOff x="154080" y="1295280"/>
            <a:chExt cx="7923240" cy="2589120"/>
          </a:xfrm>
        </p:grpSpPr>
        <p:sp>
          <p:nvSpPr>
            <p:cNvPr id="129" name="Text Box 6"/>
            <p:cNvSpPr/>
            <p:nvPr/>
          </p:nvSpPr>
          <p:spPr>
            <a:xfrm>
              <a:off x="154080" y="2327400"/>
              <a:ext cx="7923240" cy="15570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ear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aight-Lin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e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ns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÷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 Lif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Deprec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457200" y="1295280"/>
              <a:ext cx="858600" cy="858600"/>
              <a:chOff x="457200" y="1295280"/>
              <a:chExt cx="858600" cy="858600"/>
            </a:xfrm>
          </p:grpSpPr>
          <p:sp>
            <p:nvSpPr>
              <p:cNvPr id="131" name="Text Box 8"/>
              <p:cNvSpPr/>
              <p:nvPr/>
            </p:nvSpPr>
            <p:spPr>
              <a:xfrm>
                <a:off x="4572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9"/>
              <p:cNvSpPr/>
              <p:nvPr/>
            </p:nvSpPr>
            <p:spPr>
              <a:xfrm>
                <a:off x="9144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0"/>
              <p:cNvSpPr/>
              <p:nvPr/>
            </p:nvSpPr>
            <p:spPr>
              <a:xfrm>
                <a:off x="457200" y="175536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1"/>
              <p:cNvSpPr/>
              <p:nvPr/>
            </p:nvSpPr>
            <p:spPr>
              <a:xfrm>
                <a:off x="914400" y="175392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Text Box 13"/>
          <p:cNvSpPr/>
          <p:nvPr/>
        </p:nvSpPr>
        <p:spPr>
          <a:xfrm>
            <a:off x="152280" y="350532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54080" y="4038480"/>
            <a:ext cx="7923240" cy="1557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ght-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clining-Bal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52280" y="521640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CALCULATING DEPRECIATION USING THE DOUBLE DECLINING-BALANCE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Picture 4" descr="D:\C21 PowerPoint\Multi_Journal\art for blue\Ch21\Ch21-05a.jpg"/>
          <p:cNvPicPr/>
          <p:nvPr/>
        </p:nvPicPr>
        <p:blipFill>
          <a:blip r:embed="rId2"/>
          <a:srcRect l="4363" t="21327" r="0" b="57487"/>
          <a:stretch/>
        </p:blipFill>
        <p:spPr>
          <a:xfrm>
            <a:off x="457200" y="1477800"/>
            <a:ext cx="8229600" cy="2146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858000" y="2849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25780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33520" y="50594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ending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33520" y="43210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the double declining-balance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33520" y="4686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annual depreciation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33520" y="54403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the book value to the following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2514600" y="3002040"/>
            <a:ext cx="6095880" cy="861480"/>
            <a:chOff x="2514600" y="3002040"/>
            <a:chExt cx="6095880" cy="861480"/>
          </a:xfrm>
        </p:grpSpPr>
        <p:sp>
          <p:nvSpPr>
            <p:cNvPr id="148" name="Freeform 14"/>
            <p:cNvSpPr/>
            <p:nvPr/>
          </p:nvSpPr>
          <p:spPr>
            <a:xfrm>
              <a:off x="2514600" y="3002040"/>
              <a:ext cx="6095880" cy="609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6"/>
            <p:cNvSpPr/>
            <p:nvPr/>
          </p:nvSpPr>
          <p:spPr>
            <a:xfrm>
              <a:off x="3429000" y="333036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3733920" y="26971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3207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CALCULATING THE LAST YEAR’S DEPRECIATION EXPENSE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D:\C21 PowerPoint\Multi_Journal\art for blue\Ch21\Ch21-05b.jpg"/>
          <p:cNvPicPr/>
          <p:nvPr/>
        </p:nvPicPr>
        <p:blipFill>
          <a:blip r:embed="rId2"/>
          <a:srcRect l="4015" t="21327" r="0" b="49934"/>
          <a:stretch/>
        </p:blipFill>
        <p:spPr>
          <a:xfrm>
            <a:off x="457200" y="1477800"/>
            <a:ext cx="8229600" cy="2909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6934320" y="35352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334120" y="34592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09480" y="544032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e ending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09480" y="47023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ansfer the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09480" y="506736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last year’s deprec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743200" y="3611520"/>
            <a:ext cx="5867280" cy="1143000"/>
            <a:chOff x="2743200" y="3611520"/>
            <a:chExt cx="5867280" cy="1143000"/>
          </a:xfrm>
        </p:grpSpPr>
        <p:sp>
          <p:nvSpPr>
            <p:cNvPr id="160" name="Freeform 14"/>
            <p:cNvSpPr/>
            <p:nvPr/>
          </p:nvSpPr>
          <p:spPr>
            <a:xfrm>
              <a:off x="2743200" y="3611520"/>
              <a:ext cx="5867280" cy="914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"/>
            <p:cNvSpPr/>
            <p:nvPr/>
          </p:nvSpPr>
          <p:spPr>
            <a:xfrm>
              <a:off x="4648320" y="42210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11430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COMPARISON OF THE TWO METHODS OF DEPRECIA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3" name="Picture 4" descr="D:\C21 PowerPoint\Multi_Journal\art for blue\Ch21\Ch21-05c.jpg"/>
          <p:cNvPicPr/>
          <p:nvPr/>
        </p:nvPicPr>
        <p:blipFill>
          <a:blip r:embed="rId2"/>
          <a:srcRect l="1093" t="0" r="0" b="65140"/>
          <a:stretch/>
        </p:blipFill>
        <p:spPr>
          <a:xfrm>
            <a:off x="457200" y="2392200"/>
            <a:ext cx="8229600" cy="345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344360" y="7420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2:18:57Z</dcterms:created>
  <dc:creator>Mary Colleen McLaughlin</dc:creator>
  <dc:description/>
  <dc:language>en-US</dc:language>
  <cp:lastModifiedBy>David Combs</cp:lastModifiedBy>
  <dcterms:modified xsi:type="dcterms:W3CDTF">2011-10-17T22:29:56Z</dcterms:modified>
  <cp:revision>63</cp:revision>
  <dc:subject/>
  <dc:title>ADJUSTING ENTRY FOR SUPPLIES</dc:title>
</cp:coreProperties>
</file>